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1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5.jpeg" ContentType="image/jpeg"/>
  <Override PartName="/ppt/media/image11.png" ContentType="image/png"/>
  <Override PartName="/ppt/media/image19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24.jpeg" ContentType="image/jpeg"/>
  <Override PartName="/ppt/media/image12.gif" ContentType="image/gif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6.gif" ContentType="image/gif"/>
  <Override PartName="/ppt/media/image17.png" ContentType="image/pn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9B5D-D1C7-4BEB-9534-B7E71C2E4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hyperlink" Target="http://www-raider.stjohns.k12.fl.us/sciencevocab/sv16.html" TargetMode="External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hyperlink" Target="http://www.clf.org/lakekeeper/take_action.htm" TargetMode="External"/><Relationship Id="rId2" Type="http://schemas.openxmlformats.org/officeDocument/2006/relationships/hyperlink" Target="http://www.clf.org/lakekeeper/take_action.htm" TargetMode="External"/><Relationship Id="rId3" Type="http://schemas.openxmlformats.org/officeDocument/2006/relationships/hyperlink" Target="http://www.clf.org/lakekeeper/take_action.htm" TargetMode="External"/><Relationship Id="rId4" Type="http://schemas.openxmlformats.org/officeDocument/2006/relationships/slide" Target="../slides/slide41.xml"/><Relationship Id="rId5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ecialedprep.net/MSAT%20SCIENCE/KingdomMonera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-raider.stjohns.k12.fl.us/.../ sv16.htm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.cellsalive.com/ecoli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.cellsalive.com/cam2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east-buc.k12.ia.us/Ins/00-01/HS/le1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rooklyn.cuny.edu/bc/ahp/MBG/MBG3/CB.Binaryfission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ecialedprep.net/MSAT%20SCIENCE/KingdomMonera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g.cox.miami.edu/Faculty/Dana/moner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g.cox.miami.edu/Faculty/Dana/moner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g.cox.miami.edu/Faculty/Dana/moner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enniskunkel.com/PublicHtml/Edu-SearchResults.asp?Category=&amp;ImageNumber=&amp;Keyword3=&amp;Keyword2=&amp;Keyword1=bacteria&amp;offset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enniskunkel.com/PublicHtml/Edu-SearchResults.asp?Category=&amp;ImageNumber=&amp;Keyword3=&amp;Keyword2=&amp;Keyword1=bacteria&amp;offset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g.cox.miami.edu/Faculty/Dana/moner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enniskunkel.com/PublicHtml/Edu-SearchResults.asp?Category=&amp;ImageNumber=&amp;Keyword3=&amp;Keyword2=&amp;Keyword1=bacteria&amp;offset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g.cox.miami.edu/Faculty/Dana/moner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ecialedprep.net/MSAT%20SCIENCE/KingdomMonera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ecialedprep.net/MSAT%20SCIENCE/KingdomMonera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east-buc.k12.ia.us/Ins/00-01/HS/le1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mctmnet.gov.om/committee/BACTERIA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g.cox.miami.edu/Faculty/Dana/moner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g.cox.miami.edu/Faculty/Dana/moner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enniskunkel.com/PublicHtml/Edu-SearchResults.asp?Category=&amp;ImageNumber=&amp;Keyword3=&amp;Keyword2=&amp;Keyword1=bacteria&amp;offset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enniskunkel.com/PublicHtml/Edu-SearchResults.asp?Category=&amp;ImageNumber=&amp;Keyword3=&amp;Keyword2=&amp;Keyword1=bacteria&amp;offset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g.cox.miami.edu/Faculty/Dana/moner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enniskunkel.com/PublicHtml/Edu-SearchResults.asp?Category=&amp;ImageNumber=&amp;Keyword3=&amp;Keyword2=&amp;Keyword1=bacteria&amp;offset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ecialedprep.net/MSAT%20SCIENCE/KingdomMonera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ecialedprep.net/MSAT%20SCIENCE/KingdomMonera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east-buc.k12.ia.us/Ins/00-01/HS/le1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lf.org/lakekeeper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/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take_action.ht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g.cox.miami.edu/Faculty/Dana/moner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enniskunkel.com/PublicHtml/Edu-SearchResults.asp?Category=&amp;ImageNumber=&amp;Keyword3=&amp;Keyword2=&amp;Keyword1=bacteria&amp;offset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enniskunkel.com/PublicHtml/Edu-SearchResults.asp?Category=&amp;ImageNumber=&amp;Keyword3=&amp;Keyword2=&amp;Keyword1=bacteria&amp;offset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enniskunkel.com/PublicHtml/Edu-SearchResults.asp?Category=&amp;ImageNumber=&amp;Keyword3=&amp;Keyword2=&amp;Keyword1=bacteria&amp;offset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enniskunkel.com/PublicHtml/Edu-SearchResults.asp?Category=&amp;ImageNumber=&amp;Keyword3=&amp;Keyword2=&amp;Keyword1=bacteria&amp;offset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east-buc.k12.ia.us/Ins/00-01/HS/le1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east-buc.k12.ia.us/Ins/00-01/HS/le1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5178-3A1D-4E56-9660-1ED0B4CA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9962-44A0-4423-AA5D-5262D871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3E3C-44A1-4F22-A848-D723F999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CBD6-899E-47AD-9937-96ECD193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0D5-9BB7-4CE2-B48F-63E127FE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3F55-85D0-4E4B-A3C8-90BE7B6C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10E-FEE4-4BE1-B352-6A666861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455-020E-4AE2-9ABD-0AC7D32D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CE22-EF5D-4B00-B793-9BA7BC1B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6C57-22E7-4EEC-BB17-6C3CE43E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D1D4-7084-4E35-A058-00DEAAEF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2A2E-8356-4EFF-B960-848BA8E0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CE7C-F000-448A-97CB-97D58CC8F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hybridmedicalanimation.com/pages/jjani_qt/ecoli_qt.html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www.cellsalive.com/cam2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hyperlink" Target="http://www.clf.org/gifs/BlueGreen-Algae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27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f.org/gifs/BlueGreen-Algae.jpg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rcRect l="1667" t="4443" r="9166" b="44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611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890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17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52280"/>
            <a:ext cx="304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  <a:ea typeface="Times New Roman"/>
              </a:rPr>
              <a:t>THE FIVE KINGDO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9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4952880"/>
            <a:ext cx="3276720" cy="1752840"/>
          </a:xfrm>
          <a:prstGeom prst="ellipse">
            <a:avLst/>
          </a:prstGeom>
          <a:noFill/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2F5-7AFF-4490-81EC-3007BE005AD8}" type="slidenum">
              <a:t>1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0" t="4021" r="1920" b="2512"/>
          <a:stretch/>
        </p:blipFill>
        <p:spPr>
          <a:xfrm>
            <a:off x="4092480" y="1298520"/>
            <a:ext cx="4670640" cy="51055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0" y="1371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Nucle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182520"/>
            <a:ext cx="784872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Major Structures of a Bacteria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1337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ring made up of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D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1752480"/>
            <a:ext cx="4572000" cy="152424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oval" w="med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02F-F187-496D-9120-43E8E9747227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rcRect l="0" t="4021" r="1920" b="2512"/>
          <a:stretch/>
        </p:blipFill>
        <p:spPr>
          <a:xfrm>
            <a:off x="4092480" y="1298520"/>
            <a:ext cx="4670640" cy="51055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685800" y="1371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Flag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82520"/>
            <a:ext cx="784872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Major Structures of a Bacteria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133720"/>
            <a:ext cx="335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 whip-like tail that some bacteria have for loco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1828800"/>
            <a:ext cx="4648320" cy="411480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oval" w="med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" y="250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" y="250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A96-76CF-41DA-8C62-F5874E616BE0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animbug1" descr=""/>
          <p:cNvPicPr/>
          <p:nvPr/>
        </p:nvPicPr>
        <p:blipFill>
          <a:blip r:embed="rId2"/>
          <a:stretch/>
        </p:blipFill>
        <p:spPr>
          <a:xfrm>
            <a:off x="1716120" y="3429000"/>
            <a:ext cx="1828800" cy="1817640"/>
          </a:xfrm>
          <a:prstGeom prst="rect">
            <a:avLst/>
          </a:prstGeom>
          <a:ln w="0">
            <a:noFill/>
          </a:ln>
        </p:spPr>
      </p:pic>
      <p:pic>
        <p:nvPicPr>
          <p:cNvPr id="122" name="animbug2" descr=""/>
          <p:cNvPicPr/>
          <p:nvPr/>
        </p:nvPicPr>
        <p:blipFill>
          <a:blip r:embed="rId3"/>
          <a:stretch/>
        </p:blipFill>
        <p:spPr>
          <a:xfrm>
            <a:off x="5450040" y="3440160"/>
            <a:ext cx="1760400" cy="1817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14400" y="182520"/>
            <a:ext cx="784872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Major Structures of a Bacteria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3716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mimation of E.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c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4"/>
          </p:cNvPr>
          <p:cNvSpPr/>
          <p:nvPr/>
        </p:nvSpPr>
        <p:spPr>
          <a:xfrm>
            <a:off x="8077320" y="563868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301"/>
                </a:moveTo>
                <a:lnTo>
                  <a:pt x="9325" y="7301"/>
                </a:lnTo>
                <a:lnTo>
                  <a:pt x="9707" y="7667"/>
                </a:lnTo>
                <a:lnTo>
                  <a:pt x="18916" y="7667"/>
                </a:lnTo>
                <a:lnTo>
                  <a:pt x="19473" y="8224"/>
                </a:lnTo>
                <a:lnTo>
                  <a:pt x="19473" y="8772"/>
                </a:lnTo>
                <a:lnTo>
                  <a:pt x="21318" y="8772"/>
                </a:lnTo>
                <a:lnTo>
                  <a:pt x="21684" y="8224"/>
                </a:lnTo>
                <a:lnTo>
                  <a:pt x="22424" y="8224"/>
                </a:lnTo>
                <a:lnTo>
                  <a:pt x="22424" y="13376"/>
                </a:lnTo>
                <a:lnTo>
                  <a:pt x="21684" y="13376"/>
                </a:lnTo>
                <a:lnTo>
                  <a:pt x="21318" y="12828"/>
                </a:lnTo>
                <a:lnTo>
                  <a:pt x="19473" y="12828"/>
                </a:lnTo>
                <a:lnTo>
                  <a:pt x="19473" y="14107"/>
                </a:lnTo>
                <a:lnTo>
                  <a:pt x="9890" y="14107"/>
                </a:lnTo>
                <a:lnTo>
                  <a:pt x="9890" y="9877"/>
                </a:lnTo>
                <a:lnTo>
                  <a:pt x="9707" y="9877"/>
                </a:lnTo>
                <a:lnTo>
                  <a:pt x="9325" y="10243"/>
                </a:lnTo>
                <a:lnTo>
                  <a:pt x="8411" y="1024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053-6CDA-4825-839E-6A6E98404559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rcRect l="0" t="4021" r="1920" b="2512"/>
          <a:stretch/>
        </p:blipFill>
        <p:spPr>
          <a:xfrm>
            <a:off x="4092480" y="1298520"/>
            <a:ext cx="4670640" cy="51055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52280" y="9144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Pil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182520"/>
            <a:ext cx="784872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Major Structures of a Bacteria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739880"/>
            <a:ext cx="3657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hollow hair-like structures made of prote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allows bacteria to attach to other cel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illi</a:t>
            </a: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-</a:t>
            </a:r>
            <a:r>
              <a:rPr b="1" i="1" lang="en-US" sz="3200" spc="-1" strike="noStrike">
                <a:solidFill>
                  <a:srgbClr val="cc00cc"/>
                </a:solidFill>
                <a:latin typeface="Comic Sans MS"/>
              </a:rPr>
              <a:t>singular</a:t>
            </a: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illus</a:t>
            </a: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-</a:t>
            </a:r>
            <a:r>
              <a:rPr b="1" i="1" lang="en-US" sz="3200" spc="-1" strike="noStrike">
                <a:solidFill>
                  <a:srgbClr val="cc00cc"/>
                </a:solidFill>
                <a:latin typeface="Comic Sans MS"/>
              </a:rPr>
              <a:t>pl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143000"/>
            <a:ext cx="4267080" cy="30492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oval" w="med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1143000"/>
            <a:ext cx="3581280" cy="68580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oval" w="med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37E-C61A-482C-8CA5-60BCF8824B01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rcRect l="0" t="4021" r="1920" b="2512"/>
          <a:stretch/>
        </p:blipFill>
        <p:spPr>
          <a:xfrm>
            <a:off x="4092480" y="1298520"/>
            <a:ext cx="4670640" cy="51055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0" y="1371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Comic Sans MS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82520"/>
            <a:ext cx="784872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Major Structures of a Bacteria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209680"/>
            <a:ext cx="335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clear jelly-like material that makes up most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676520"/>
            <a:ext cx="3505320" cy="30456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oval" w="med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3AD-9693-4221-944E-3047D1F5B213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2280" y="730080"/>
            <a:ext cx="8991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</a:rPr>
              <a:t>Binary Fission-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cc00cc"/>
                </a:solidFill>
                <a:latin typeface="Comic Sans MS"/>
                <a:ea typeface="Times New Roman"/>
              </a:rPr>
              <a:t>the process of one organism dividing into two organis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ssion is a type of asexual reprodu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0"/>
            <a:ext cx="5181840" cy="106884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production of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10080" y="4038480"/>
            <a:ext cx="3353040" cy="2511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3520" y="4024440"/>
            <a:ext cx="5029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?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ne main (circular) chromosome makes a copy of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 it divides into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2666880"/>
            <a:ext cx="8915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Asexual reproduction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reproduction of a living thing from only one pa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3F64-0560-4EE4-A8FB-9B41005C921D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-76320" y="1219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INARY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3505320" cy="2895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952880" y="2057400"/>
            <a:ext cx="3581640" cy="2895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04920" y="52578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cteria divi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40920" y="5241960"/>
            <a:ext cx="24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e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0"/>
            <a:ext cx="5181840" cy="106884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production of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4"/>
          </p:cNvPr>
          <p:cNvSpPr/>
          <p:nvPr/>
        </p:nvSpPr>
        <p:spPr>
          <a:xfrm>
            <a:off x="845820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7301"/>
                </a:moveTo>
                <a:lnTo>
                  <a:pt x="9017" y="7301"/>
                </a:lnTo>
                <a:lnTo>
                  <a:pt x="9400" y="7667"/>
                </a:lnTo>
                <a:lnTo>
                  <a:pt x="18609" y="7667"/>
                </a:lnTo>
                <a:lnTo>
                  <a:pt x="19166" y="8224"/>
                </a:lnTo>
                <a:lnTo>
                  <a:pt x="19166" y="8772"/>
                </a:lnTo>
                <a:lnTo>
                  <a:pt x="21011" y="8772"/>
                </a:lnTo>
                <a:lnTo>
                  <a:pt x="21376" y="8224"/>
                </a:lnTo>
                <a:lnTo>
                  <a:pt x="22116" y="8224"/>
                </a:lnTo>
                <a:lnTo>
                  <a:pt x="22116" y="13376"/>
                </a:lnTo>
                <a:lnTo>
                  <a:pt x="21376" y="13376"/>
                </a:lnTo>
                <a:lnTo>
                  <a:pt x="21011" y="12828"/>
                </a:lnTo>
                <a:lnTo>
                  <a:pt x="19166" y="12828"/>
                </a:lnTo>
                <a:lnTo>
                  <a:pt x="19166" y="14107"/>
                </a:lnTo>
                <a:lnTo>
                  <a:pt x="9583" y="14107"/>
                </a:lnTo>
                <a:lnTo>
                  <a:pt x="9583" y="9877"/>
                </a:lnTo>
                <a:lnTo>
                  <a:pt x="9400" y="9877"/>
                </a:lnTo>
                <a:lnTo>
                  <a:pt x="9017" y="10243"/>
                </a:lnTo>
                <a:lnTo>
                  <a:pt x="8103" y="1024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1BF1-2B7E-4444-AF67-CC98A525BAD5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2280" y="1130400"/>
            <a:ext cx="914400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time of reproduction depends on how desirable the condition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Bacteria can rapidly reproduce themselves in warm, dark, and moist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me can reproduce every 20 minut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cc00cc"/>
                </a:solidFill>
                <a:latin typeface="Comic Sans MS"/>
              </a:rPr>
              <a:t>one bacteria could be an ancestor to </a:t>
            </a:r>
            <a:r>
              <a:rPr b="0" i="1" lang="en-US" sz="3200" spc="-1" strike="noStrike">
                <a:solidFill>
                  <a:srgbClr val="cc00cc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cc00cc"/>
                </a:solidFill>
                <a:latin typeface="Comic Sans MS"/>
              </a:rPr>
              <a:t>one million bacteria in six h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0"/>
            <a:ext cx="5181840" cy="106884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production of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95F5-FF3F-4D55-9944-F6CC86B47B80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2386080" y="3139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91440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19320" y="228600"/>
            <a:ext cx="5790960" cy="6629400"/>
            <a:chOff x="1219320" y="228600"/>
            <a:chExt cx="5790960" cy="662940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rcRect l="0" t="15854" r="0" b="0"/>
            <a:stretch/>
          </p:blipFill>
          <p:spPr>
            <a:xfrm>
              <a:off x="1219320" y="228600"/>
              <a:ext cx="5736960" cy="662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4038480" y="1447920"/>
              <a:ext cx="2286000" cy="838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24280" y="4800600"/>
              <a:ext cx="228600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8480" y="228600"/>
              <a:ext cx="2286000" cy="990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38480" y="2438280"/>
              <a:ext cx="2895840" cy="8384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038480" y="228600"/>
            <a:ext cx="4038840" cy="1068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cterial Cell &amp; Nucleiod DNA 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1600200"/>
            <a:ext cx="342900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2590920"/>
            <a:ext cx="373392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ll wall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5002200"/>
            <a:ext cx="312444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ll s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 rot="5400000">
            <a:off x="-2243160" y="2624040"/>
            <a:ext cx="6019920" cy="1076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Binary Fission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813-0AA0-44D5-BDF1-C479D4CF8CF6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90920" y="76320"/>
            <a:ext cx="4267080" cy="581400"/>
          </a:xfrm>
          <a:prstGeom prst="rect">
            <a:avLst/>
          </a:prstGeom>
          <a:noFill/>
          <a:ln w="73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Bacteria Survival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320" y="685800"/>
            <a:ext cx="899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ndospore-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thick celled structure that forms insi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31624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hey are the major cause of food pois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320" y="3627360"/>
            <a:ext cx="50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hey can withstand boiling, freezing, and  extremely dry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522756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it encloses all the     nuclear materia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and some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3962160" cy="2971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300204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allows the bacteria to survive for many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DD9-6910-43F8-A7D8-B8045D79C76D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92400" y="270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8612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763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ntroduction to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838080"/>
            <a:ext cx="8915400" cy="43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2 TYPES OF BACTER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-Get food from an outside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lue-green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-Make their own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5880" y="3505320"/>
            <a:ext cx="2819520" cy="277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E8C1-98C0-473C-9A58-E087E2402C76}" type="slidenum">
              <a:t>2</a:t>
            </a:fld>
          </a:p>
        </p:txBody>
      </p:sp>
    </p:spTree>
  </p:cSld>
  <p:transition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2280" y="34574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Bacillus subti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Endospore-the black section in the midd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Bacillus subtilis"/>
          <p:cNvPicPr/>
          <p:nvPr/>
        </p:nvPicPr>
        <p:blipFill>
          <a:blip r:embed="rId2"/>
          <a:stretch/>
        </p:blipFill>
        <p:spPr>
          <a:xfrm>
            <a:off x="2819520" y="990720"/>
            <a:ext cx="3657600" cy="2422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1143000" y="4830840"/>
            <a:ext cx="8001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ly resistant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withstand radiation, UV light, and boiling at 120oC for 15 min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76320"/>
            <a:ext cx="4267080" cy="581400"/>
          </a:xfrm>
          <a:prstGeom prst="rect">
            <a:avLst/>
          </a:prstGeom>
          <a:noFill/>
          <a:ln w="73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Bacteria Survival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5892-3DD5-4254-B005-446BEEFB4D29}" type="slidenum">
              <a:t>20</a:t>
            </a:fld>
          </a:p>
        </p:txBody>
      </p:sp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3019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763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Bacteria Survival – Food sources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685800"/>
            <a:ext cx="899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parasites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acteria that feed on living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saprophy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use dead materials for food (exclusive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decomposers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et food from breaking down dead matter into simple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- because they send minerals and other materials back into the soil so other organisms can us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C6F4-970C-4608-A583-DB9278E4A2FC}" type="slidenum">
              <a:t>21</a:t>
            </a:fld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019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76320"/>
            <a:ext cx="4267080" cy="5814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armful Bacteria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685800"/>
            <a:ext cx="8991360" cy="62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bacteria cause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mals can pass diseases to hu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Comic Sans MS"/>
              </a:rPr>
              <a:t>Communicable Disease –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Disease passed from one organism to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This can happen in several way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ir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Touching clothing, food, silverware, or toothbrus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rinking water that contains bacteri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543800" y="380880"/>
            <a:ext cx="1165320" cy="1292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7696080" y="3733920"/>
            <a:ext cx="903240" cy="129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7EC-C2CE-4C2C-B2EF-6D1EAE4C524E}" type="slidenum">
              <a:t>22</a:t>
            </a:fld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76320" y="50742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Human tooth with accumulation of bacterial plaque (smooth areas) and calcified tartar (rough are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rcRect l="0" t="0" r="0" b="16082"/>
          <a:stretch/>
        </p:blipFill>
        <p:spPr>
          <a:xfrm>
            <a:off x="2247840" y="1447920"/>
            <a:ext cx="4762440" cy="31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2590920" y="258840"/>
            <a:ext cx="4267080" cy="5814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armful Bacteria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118A-A320-4774-A581-76728D76A4A6}" type="slidenum">
              <a:t>23</a:t>
            </a:fld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3019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76320"/>
            <a:ext cx="3581280" cy="5814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elpful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685800"/>
            <a:ext cx="899136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Decomposers help recycle nutrients into the soil for other organisms to g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Bacteria grow in the stomach of a cow to break down grass and h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Most are used to make antibio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Some bacteria help make insu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Used to make industrial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934320" y="2751120"/>
            <a:ext cx="2057400" cy="1515960"/>
          </a:xfrm>
          <a:prstGeom prst="rect">
            <a:avLst/>
          </a:prstGeom>
          <a:ln w="69840">
            <a:solidFill>
              <a:srgbClr val="3366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E19-8984-4431-9D20-D1B0F9B64BAD}" type="slidenum">
              <a:t>24</a:t>
            </a:fld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08" name="" descr=""/>
          <p:cNvPicPr/>
          <p:nvPr/>
        </p:nvPicPr>
        <p:blipFill>
          <a:blip r:embed="rId2"/>
          <a:srcRect l="0" t="0" r="0" b="16923"/>
          <a:stretch/>
        </p:blipFill>
        <p:spPr>
          <a:xfrm>
            <a:off x="1397160" y="1447920"/>
            <a:ext cx="6349680" cy="4221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2133720" y="59436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ol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n small intest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258840"/>
            <a:ext cx="3505320" cy="5814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elpful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C8F-8855-4186-ACB6-C0F444B94A53}" type="slidenum">
              <a:t>25</a:t>
            </a:fld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3019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685800"/>
            <a:ext cx="914400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Used to treat sew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     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rganic waste is consumed by the bacteria, used as nutrients by the bacteria, and is no longer present to produce odors, sludge, pollution, or unsightly m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foods like yogurt, cottage &amp; Swiss cheese, sour cream, buttermilk are made from bacteria that grows in mi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657600" y="4800600"/>
            <a:ext cx="1676520" cy="1905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791320" y="4800600"/>
            <a:ext cx="2286000" cy="1830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6524640" y="304920"/>
            <a:ext cx="2390760" cy="981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438280" y="76320"/>
            <a:ext cx="3581640" cy="5814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elpful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C4BD-35EB-403A-B93D-FF322FAC2C3C}" type="slidenum">
              <a:t>26</a:t>
            </a:fld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590920" y="106200"/>
            <a:ext cx="4419360" cy="5814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ontrolling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7621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 ways to control bacter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52388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1)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anning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the process of sealing food in airtight cans or jars after killing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26208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dospores are killed during this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34290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2)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asteurization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process of heating milk to kill harmful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4800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3)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ehydration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removing water from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5364000"/>
            <a:ext cx="82296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cteria can’t grow whe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is remove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59738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uncooked noodles &amp; cold ce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0FB4-FF2A-4AB8-A492-5CF7C47166C0}" type="slidenum">
              <a:t>27</a:t>
            </a:fld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52480" y="106200"/>
            <a:ext cx="5791320" cy="106884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ontrolling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Antiseptic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 vs.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Disinfec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371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Comic Sans MS"/>
              </a:rPr>
              <a:t>Antiseptic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emicals that kill bacteria on living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24685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ans – “against infec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31240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odine, hydrogen peroxide, alcohol, soap, mouthw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3894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Disinfectants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ronger chemicals that destroy bacteria on objects or nonliving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543800" y="4648320"/>
            <a:ext cx="1390680" cy="2009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5829480" y="5362560"/>
            <a:ext cx="1485720" cy="1343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8880" y="9144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9774-7E60-4727-AD1E-9B60C1BEBEAD}" type="slidenum">
              <a:t>28</a:t>
            </a:fld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371600" y="152280"/>
            <a:ext cx="64771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LUE-GREEN BACTE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990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utotrophs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–  </a:t>
            </a:r>
            <a:r>
              <a:rPr b="0" lang="en-US" sz="3600" spc="-1" strike="noStrike">
                <a:solidFill>
                  <a:srgbClr val="cc00cc"/>
                </a:solidFill>
                <a:latin typeface="Comic Sans MS"/>
                <a:ea typeface="Times New Roman"/>
              </a:rPr>
              <a:t>make their own food through 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29556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commonly grow on water and surfaces that stay wet…such as rivers, creeks and da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7960" y="2361240"/>
            <a:ext cx="651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rger than most bacterial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449496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live in salt water, snow, and acid water of hot spring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57139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food source for animals that live in the wa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A0B1-2F92-4EDC-BAC2-8EF431EFC2CA}" type="slidenum">
              <a:t>29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90920" y="763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1020600"/>
            <a:ext cx="89154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Bacteria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mall one celled moner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Bacteria like a warm, dark, and moist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y are found almost every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-water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-air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-soil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-food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-skin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-inside th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-on most objec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06720" y="3733920"/>
            <a:ext cx="2022480" cy="2022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2971800"/>
            <a:ext cx="8229600" cy="35053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EAA4-F71E-4B46-AD1D-9C6E3EB62F2C}" type="slidenum">
              <a:t>3</a:t>
            </a:fld>
          </a:p>
        </p:txBody>
      </p:sp>
    </p:spTree>
  </p:cSld>
  <p:transition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994760" y="152280"/>
            <a:ext cx="63147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LUE-GREEN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ACTE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2149560"/>
            <a:ext cx="548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looms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ccur when the bacteria multiplies in great numbers and form scum on the top of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Picture "/>
          <p:cNvPicPr/>
          <p:nvPr/>
        </p:nvPicPr>
        <p:blipFill>
          <a:blip r:embed="rId2"/>
          <a:srcRect l="0" t="16739" r="0" b="0"/>
          <a:stretch/>
        </p:blipFill>
        <p:spPr>
          <a:xfrm>
            <a:off x="169920" y="2517840"/>
            <a:ext cx="3259080" cy="4035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44" name=""/>
          <p:cNvSpPr/>
          <p:nvPr/>
        </p:nvSpPr>
        <p:spPr>
          <a:xfrm>
            <a:off x="838080" y="1249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can be </a:t>
            </a:r>
            <a:r>
              <a:rPr b="0" i="1" lang="en-US" sz="3200" spc="-1" strike="noStrike">
                <a:solidFill>
                  <a:srgbClr val="cc00cc"/>
                </a:solidFill>
                <a:latin typeface="Comic Sans MS"/>
              </a:rPr>
              <a:t>toxic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 to humans and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4572000"/>
            <a:ext cx="3429000" cy="1978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CAFC-45E8-4E15-B3DB-A7FC358F979D}" type="slidenum">
              <a:t>30</a:t>
            </a:fld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3" name=""/>
          <p:cNvSpPr txBox="1"/>
          <p:nvPr/>
        </p:nvSpPr>
        <p:spPr>
          <a:xfrm>
            <a:off x="1219320" y="838080"/>
            <a:ext cx="624816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he En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35DD-322E-43D0-9A19-49736E685EFA}" type="slidenum">
              <a:t>31</a:t>
            </a:fld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590920" y="76320"/>
            <a:ext cx="4267080" cy="581400"/>
          </a:xfrm>
          <a:prstGeom prst="rect">
            <a:avLst/>
          </a:prstGeom>
          <a:noFill/>
          <a:ln w="73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Bacteria Survival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320" y="685800"/>
            <a:ext cx="899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ndospore-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a thick celled structure that forms insi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encloses all the nuclear materia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some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They can withstand boiling, freezing, and extremely dry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ws the bacteria to survive for many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2E62-0700-4F71-BAE3-D607EE580A79}" type="slidenum">
              <a:t>32</a:t>
            </a:fld>
          </a:p>
        </p:txBody>
      </p:sp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3019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080" y="763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Bacteria Survival – Food sources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320" y="685800"/>
            <a:ext cx="8991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parasites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acteria that feed on living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saprophy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use dead materials for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decomposers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et food from breaking down dead matter into simple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- because they send minerals and other materials back into the soil so other organisms can us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32DE-296A-41EF-9950-8CD80F012D63}" type="slidenum">
              <a:t>33</a:t>
            </a:fld>
          </a:p>
        </p:txBody>
      </p:sp>
    </p:spTree>
  </p:cSld>
  <p:transition>
    <p:fade thruBlk="true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3019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76320"/>
            <a:ext cx="4267080" cy="5814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armful Bacteria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685800"/>
            <a:ext cx="8991360" cy="62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bacteria cause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mals can pass diseases to hu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Comic Sans MS"/>
              </a:rPr>
              <a:t>Communicable Disease –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Disease passed from one organism to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This can happen in several way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ir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Touching clothing, food, silverware, or toothbrus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rinking water that contains bacteri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543800" y="380880"/>
            <a:ext cx="1165320" cy="12924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7696080" y="3733920"/>
            <a:ext cx="903240" cy="129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09D1-9EA4-450F-86D1-1B723D7EB9B2}" type="slidenum">
              <a:t>34</a:t>
            </a:fld>
          </a:p>
        </p:txBody>
      </p:sp>
    </p:spTree>
  </p:cSld>
  <p:transition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76320" y="50742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Human tooth with accumulation of bacterial plaque (smooth areas) and calcified tartar (rough are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rcRect l="0" t="0" r="0" b="16082"/>
          <a:stretch/>
        </p:blipFill>
        <p:spPr>
          <a:xfrm>
            <a:off x="2247840" y="1447920"/>
            <a:ext cx="4762440" cy="31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590920" y="258840"/>
            <a:ext cx="4267080" cy="5814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armful Bacteria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644-687B-4398-8D38-5656ACDD47BB}" type="slidenum">
              <a:t>35</a:t>
            </a:fld>
          </a:p>
        </p:txBody>
      </p:sp>
    </p:spTree>
  </p:cSld>
  <p:transition>
    <p:fade thruBlk="true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019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76320"/>
            <a:ext cx="3581280" cy="5814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elpful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320" y="685800"/>
            <a:ext cx="899136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Decomposers help recycle nutrients into the soil for other organisms to g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Bacteria grow in the stomach of a cow to break down grass and h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Most are sued to make antibio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Some bacteria help make insu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Used to make industrial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6934320" y="2751120"/>
            <a:ext cx="2057400" cy="1515960"/>
          </a:xfrm>
          <a:prstGeom prst="rect">
            <a:avLst/>
          </a:prstGeom>
          <a:ln w="69840">
            <a:solidFill>
              <a:srgbClr val="3366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082-5587-49C6-ABA5-ADE6218BBF6C}" type="slidenum">
              <a:t>36</a:t>
            </a:fld>
          </a:p>
        </p:txBody>
      </p:sp>
    </p:spTree>
  </p:cSld>
  <p:transition>
    <p:fade thruBlk="true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88" name="" descr=""/>
          <p:cNvPicPr/>
          <p:nvPr/>
        </p:nvPicPr>
        <p:blipFill>
          <a:blip r:embed="rId2"/>
          <a:srcRect l="0" t="0" r="0" b="16923"/>
          <a:stretch/>
        </p:blipFill>
        <p:spPr>
          <a:xfrm>
            <a:off x="1397160" y="1447920"/>
            <a:ext cx="6349680" cy="4221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89" name=""/>
          <p:cNvSpPr/>
          <p:nvPr/>
        </p:nvSpPr>
        <p:spPr>
          <a:xfrm>
            <a:off x="2133720" y="59436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ol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n small intest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38280" y="258840"/>
            <a:ext cx="3505320" cy="5814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elpful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EB8-5416-4A6D-BBFA-BDB45B0B5B79}" type="slidenum">
              <a:t>37</a:t>
            </a:fld>
          </a:p>
        </p:txBody>
      </p:sp>
    </p:spTree>
  </p:cSld>
  <p:transition>
    <p:fade thruBlk="true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5410080" y="3276720"/>
            <a:ext cx="1486080" cy="13428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3429000" y="2590920"/>
            <a:ext cx="1390680" cy="20095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590920" y="106200"/>
            <a:ext cx="4419360" cy="5814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ontrolling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D5F8-4143-479C-865F-A1B3722A92C5}" type="slidenum">
              <a:t>38</a:t>
            </a:fld>
          </a:p>
        </p:txBody>
      </p:sp>
    </p:spTree>
  </p:cSld>
  <p:transition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371600" y="2286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LUE-GREEN BACTE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295280"/>
            <a:ext cx="9144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 their own food through 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Bigger than most bacterial cell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monly grow on water and surfaces that stay we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…such as rivers, creeks and da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E87-AED1-47BC-B9AD-29ABFAE7EC2E}" type="slidenum">
              <a:t>39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867280" y="2209680"/>
            <a:ext cx="3124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pir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spiri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od-shaped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bacilli, bacillus</a:t>
            </a: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ou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coc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0" t="0" r="14577" b="24338"/>
          <a:stretch/>
        </p:blipFill>
        <p:spPr>
          <a:xfrm>
            <a:off x="304920" y="1747800"/>
            <a:ext cx="4338360" cy="480528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2057400" y="182520"/>
            <a:ext cx="4648320" cy="5814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Comic Sans MS"/>
              </a:rPr>
              <a:t>3 Shapes of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102060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cteria are classified by shape into 3 grou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266720" y="2514600"/>
            <a:ext cx="1600200" cy="45720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diamond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580920" y="3581280"/>
            <a:ext cx="2210040" cy="83844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diamond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742840" y="4952880"/>
            <a:ext cx="3048120" cy="114300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diamond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E45-A595-444E-AB5C-3B0125D48CB9}" type="slidenum">
              <a:t>4</a:t>
            </a:fld>
          </a:p>
        </p:txBody>
      </p:sp>
    </p:spTree>
  </p:cSld>
  <p:transition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956600" y="152280"/>
            <a:ext cx="631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LUE-GREEN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ACTE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1143000"/>
            <a:ext cx="9144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can b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x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o humans and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Bloo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ccur when the bacteri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ltiplies in great numbers a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m scum on the top of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2A5-12B0-47DD-8361-172A9083100F}" type="slidenum">
              <a:t>40</a:t>
            </a:fld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066680" y="380880"/>
            <a:ext cx="74678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Comic Sans MS"/>
              </a:rPr>
              <a:t>EXAMPLES OF BLUE-GREEN BACTERIA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cccc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30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3508200"/>
            <a:ext cx="3429000" cy="19782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flipH="1" rot="5400000">
            <a:off x="-1478880" y="45244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ke Champl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1006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Picture "/>
          <p:cNvPicPr/>
          <p:nvPr/>
        </p:nvPicPr>
        <p:blipFill>
          <a:blip r:embed="rId4"/>
          <a:srcRect l="0" t="16668" r="0" b="0"/>
          <a:stretch/>
        </p:blipFill>
        <p:spPr>
          <a:xfrm>
            <a:off x="5611680" y="2743200"/>
            <a:ext cx="30751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A9DA-B7D4-473B-BEDE-20940BA67A06}" type="slidenum">
              <a:t>41</a:t>
            </a:fld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1" name=""/>
          <p:cNvSpPr txBox="1"/>
          <p:nvPr/>
        </p:nvSpPr>
        <p:spPr>
          <a:xfrm>
            <a:off x="2033640" y="2463840"/>
            <a:ext cx="507672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ctures of Bacteri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35D0-6E47-4572-888B-320545CFF5D8}" type="slidenum">
              <a:t>42</a:t>
            </a:fld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2031840" y="254160"/>
            <a:ext cx="5080320" cy="634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BBF-5AEC-4405-ABB0-5ACCE73388B2}" type="slidenum">
              <a:t>43</a:t>
            </a:fld>
          </a:p>
        </p:txBody>
      </p:sp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2666880" y="1047600"/>
            <a:ext cx="3810240" cy="4762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533520" y="2986560"/>
            <a:ext cx="426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Bacillus anthrac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rod, vegetative stage prokaryote (bacterium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age Number: 21185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C860-22E6-4D69-BF05-FC16157D2AA9}" type="slidenum">
              <a:t>44</a:t>
            </a:fld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2190600" y="1523880"/>
            <a:ext cx="4762800" cy="3810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26960" y="2164320"/>
            <a:ext cx="437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Neisseria meningitid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coccus prokaryote (bacterium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age Number: 97214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2C7-EC5D-4FED-B231-2D17C79622C2}" type="slidenum">
              <a:t>45</a:t>
            </a:fld>
          </a:p>
        </p:txBody>
      </p:sp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2031840" y="254160"/>
            <a:ext cx="5080320" cy="63496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84360" y="1676880"/>
            <a:ext cx="259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eptospira interroga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spiral shaped prokaryote (spirochete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55A4-2B01-4893-9ED5-3791B48EF9C9}" type="slidenum">
              <a:t>46</a:t>
            </a:fld>
          </a:p>
        </p:txBody>
      </p:sp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438120" y="762120"/>
            <a:ext cx="6724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ep an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hybridmedicalanimation.com/pages/jjani_qt/strep_pneumo_qt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3354480"/>
            <a:ext cx="6705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coli movement animat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hybridmedicalanimation.com/pages/jjani_qt/ecoli_qt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897C-456C-4C66-944C-7DDEFD8092E4}" type="slidenum">
              <a:t>47</a:t>
            </a:fld>
          </a:p>
        </p:txBody>
      </p:sp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117440" y="75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jj_e_coli" descr=""/>
          <p:cNvPicPr/>
          <p:nvPr/>
        </p:nvPicPr>
        <p:blipFill>
          <a:blip r:embed="rId2"/>
          <a:stretch/>
        </p:blipFill>
        <p:spPr>
          <a:xfrm>
            <a:off x="1971720" y="685800"/>
            <a:ext cx="4962600" cy="39704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533520" y="466416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coli movement animat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hybridmedicalanimation.com/pages/jjani_qt/ecoli_qt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6D27-A483-4848-878A-2A5811A9FDCF}" type="slidenum">
              <a:t>48</a:t>
            </a:fld>
          </a:p>
        </p:txBody>
      </p:sp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35280" y="3139920"/>
            <a:ext cx="90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V mov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-micro.msb.le.ac.uk/Video/HIV.m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336-5BB3-4F0A-BA13-674FE4D7BAA0}" type="slidenum">
              <a:t>49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00400" y="182520"/>
            <a:ext cx="4648320" cy="5814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Comic Sans MS"/>
              </a:rPr>
              <a:t>3 Shapes of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52280" y="76320"/>
            <a:ext cx="8458200" cy="2744280"/>
            <a:chOff x="152280" y="76320"/>
            <a:chExt cx="8458200" cy="2744280"/>
          </a:xfrm>
        </p:grpSpPr>
        <p:pic>
          <p:nvPicPr>
            <p:cNvPr id="74" name="" descr=""/>
            <p:cNvPicPr/>
            <p:nvPr/>
          </p:nvPicPr>
          <p:blipFill>
            <a:blip r:embed="rId2"/>
            <a:srcRect l="0" t="13198" r="12000" b="19601"/>
            <a:stretch/>
          </p:blipFill>
          <p:spPr>
            <a:xfrm>
              <a:off x="152280" y="76320"/>
              <a:ext cx="2362320" cy="22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4343400" y="1751760"/>
              <a:ext cx="4267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Comic Sans MS"/>
                </a:rPr>
                <a:t>Bacillus anthracis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– (bacillu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52280" y="2362320"/>
            <a:ext cx="8763120" cy="2561040"/>
            <a:chOff x="152280" y="2362320"/>
            <a:chExt cx="8763120" cy="2561040"/>
          </a:xfrm>
        </p:grpSpPr>
        <p:sp>
          <p:nvSpPr>
            <p:cNvPr id="77" name=""/>
            <p:cNvSpPr/>
            <p:nvPr/>
          </p:nvSpPr>
          <p:spPr>
            <a:xfrm>
              <a:off x="4343400" y="3367080"/>
              <a:ext cx="4572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Comic Sans MS"/>
                </a:rPr>
                <a:t>Neisseria meningitidis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(coccu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3"/>
            <a:srcRect l="26003" t="0" r="401" b="18001"/>
            <a:stretch/>
          </p:blipFill>
          <p:spPr>
            <a:xfrm>
              <a:off x="152280" y="2362320"/>
              <a:ext cx="2362320" cy="222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" name=""/>
          <p:cNvGrpSpPr/>
          <p:nvPr/>
        </p:nvGrpSpPr>
        <p:grpSpPr>
          <a:xfrm>
            <a:off x="152280" y="4648320"/>
            <a:ext cx="8920440" cy="2160360"/>
            <a:chOff x="152280" y="4648320"/>
            <a:chExt cx="8920440" cy="2160360"/>
          </a:xfrm>
        </p:grpSpPr>
        <p:sp>
          <p:nvSpPr>
            <p:cNvPr id="80" name=""/>
            <p:cNvSpPr/>
            <p:nvPr/>
          </p:nvSpPr>
          <p:spPr>
            <a:xfrm>
              <a:off x="4267080" y="5334120"/>
              <a:ext cx="4805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Comic Sans MS"/>
                </a:rPr>
                <a:t>Leptospira interrogans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– (spirilla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4"/>
            <a:srcRect l="0" t="6797" r="0" b="20001"/>
            <a:stretch/>
          </p:blipFill>
          <p:spPr>
            <a:xfrm>
              <a:off x="152280" y="4648320"/>
              <a:ext cx="2362320" cy="21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B783-DDA3-40FB-AED2-F9FBCAF0EBDB}" type="slidenum">
              <a:t>5</a:t>
            </a:fld>
          </a:p>
        </p:txBody>
      </p:sp>
    </p:spTree>
  </p:cSld>
  <p:transition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14400" y="182520"/>
            <a:ext cx="784872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Major Structures of a Bacteria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371600"/>
            <a:ext cx="38862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Caps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Rib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ucle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Flag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il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092480" y="1298520"/>
            <a:ext cx="4670640" cy="5105520"/>
            <a:chOff x="4092480" y="1298520"/>
            <a:chExt cx="4670640" cy="5105520"/>
          </a:xfrm>
        </p:grpSpPr>
        <p:pic>
          <p:nvPicPr>
            <p:cNvPr id="85" name="" descr=""/>
            <p:cNvPicPr/>
            <p:nvPr/>
          </p:nvPicPr>
          <p:blipFill>
            <a:blip r:embed="rId2"/>
            <a:srcRect l="0" t="4021" r="1920" b="2512"/>
            <a:stretch/>
          </p:blipFill>
          <p:spPr>
            <a:xfrm>
              <a:off x="4092480" y="1298520"/>
              <a:ext cx="4670640" cy="5105520"/>
            </a:xfrm>
            <a:prstGeom prst="rect">
              <a:avLst/>
            </a:prstGeom>
            <a:ln w="76320">
              <a:solidFill>
                <a:srgbClr val="008000"/>
              </a:solidFill>
              <a:miter/>
            </a:ln>
          </p:spPr>
        </p:pic>
        <p:sp>
          <p:nvSpPr>
            <p:cNvPr id="86" name=""/>
            <p:cNvSpPr/>
            <p:nvPr/>
          </p:nvSpPr>
          <p:spPr>
            <a:xfrm>
              <a:off x="4114800" y="380988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8A4-507B-473E-A28C-BA1CA4C9D28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0" t="4021" r="1920" b="2512"/>
          <a:stretch/>
        </p:blipFill>
        <p:spPr>
          <a:xfrm>
            <a:off x="4092480" y="1298520"/>
            <a:ext cx="4670640" cy="51055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0" y="1371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Caps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52480" y="1828800"/>
            <a:ext cx="4876920" cy="3505320"/>
            <a:chOff x="1752480" y="1828800"/>
            <a:chExt cx="4876920" cy="3505320"/>
          </a:xfrm>
        </p:grpSpPr>
        <p:sp>
          <p:nvSpPr>
            <p:cNvPr id="90" name=""/>
            <p:cNvSpPr/>
            <p:nvPr/>
          </p:nvSpPr>
          <p:spPr>
            <a:xfrm>
              <a:off x="1752480" y="1828800"/>
              <a:ext cx="4876920" cy="3505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52480" y="1828800"/>
              <a:ext cx="327672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52480" y="1828800"/>
              <a:ext cx="335304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914400" y="182520"/>
            <a:ext cx="784872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Major Structures of a Bacteria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89548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keeps the cell from drying out and helps it stick to food or other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D6E6-2AA0-48D1-B5AA-7D0FF4E851C5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rcRect l="0" t="4021" r="1920" b="2512"/>
          <a:stretch/>
        </p:blipFill>
        <p:spPr>
          <a:xfrm>
            <a:off x="4114800" y="1295280"/>
            <a:ext cx="4670280" cy="51055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0" y="1371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82520"/>
            <a:ext cx="784872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Major Structures of a Bacteria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752480" y="1676520"/>
            <a:ext cx="3581640" cy="1828800"/>
            <a:chOff x="1752480" y="1676520"/>
            <a:chExt cx="3581640" cy="1828800"/>
          </a:xfrm>
        </p:grpSpPr>
        <p:sp>
          <p:nvSpPr>
            <p:cNvPr id="99" name=""/>
            <p:cNvSpPr/>
            <p:nvPr/>
          </p:nvSpPr>
          <p:spPr>
            <a:xfrm>
              <a:off x="1752480" y="1676520"/>
              <a:ext cx="3581640" cy="6858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52480" y="1676520"/>
              <a:ext cx="3124440" cy="18288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04920" y="2895480"/>
            <a:ext cx="32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Thick outer covering that maintains the overall shape of the bacterial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B99-86F5-437B-9C61-73AAF0F9D533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rcRect l="0" t="4021" r="1920" b="2512"/>
          <a:stretch/>
        </p:blipFill>
        <p:spPr>
          <a:xfrm>
            <a:off x="4092480" y="1298520"/>
            <a:ext cx="4670640" cy="51055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533520" y="990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Rib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182520"/>
            <a:ext cx="784872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Major Structures of a Bacteria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1922400"/>
            <a:ext cx="3886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cell part where proteins are m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Ribosomes give the cytoplasm of bacteria a granular appearance in electron micro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895480" y="1371600"/>
            <a:ext cx="3429000" cy="3124080"/>
            <a:chOff x="2895480" y="1371600"/>
            <a:chExt cx="3429000" cy="3124080"/>
          </a:xfrm>
        </p:grpSpPr>
        <p:sp>
          <p:nvSpPr>
            <p:cNvPr id="107" name=""/>
            <p:cNvSpPr/>
            <p:nvPr/>
          </p:nvSpPr>
          <p:spPr>
            <a:xfrm>
              <a:off x="2895480" y="1371600"/>
              <a:ext cx="2590920" cy="685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headEnd len="med" type="oval" w="med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95480" y="1371600"/>
              <a:ext cx="3429000" cy="31240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headEnd len="med" type="oval" w="med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4B6B-50DE-4A6C-9999-8A1774E55583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20:18:59Z</dcterms:created>
  <dc:creator>Valued Sony Customer</dc:creator>
  <dc:description/>
  <dc:language>en-US</dc:language>
  <cp:lastModifiedBy>llefkowitz</cp:lastModifiedBy>
  <dcterms:modified xsi:type="dcterms:W3CDTF">2007-12-03T16:04:11Z</dcterms:modified>
  <cp:revision>214</cp:revision>
  <dc:subject/>
  <dc:title>PowerPoint Presentation</dc:title>
</cp:coreProperties>
</file>